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9.wmf" ContentType="image/x-wmf"/>
  <Override PartName="/ppt/media/image34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33.wmf" ContentType="image/x-wmf"/>
  <Override PartName="/ppt/media/image13.wmf" ContentType="image/x-wmf"/>
  <Override PartName="/ppt/media/image30.wmf" ContentType="image/x-wmf"/>
  <Override PartName="/ppt/media/image21.wmf" ContentType="image/x-wmf"/>
  <Override PartName="/ppt/media/image6.jpeg" ContentType="image/jpeg"/>
  <Override PartName="/ppt/media/image32.wmf" ContentType="image/x-wmf"/>
  <Override PartName="/ppt/media/image31.wmf" ContentType="image/x-wmf"/>
  <Override PartName="/ppt/media/image7.jpeg" ContentType="image/jpeg"/>
  <Override PartName="/ppt/media/image35.wmf" ContentType="image/x-wmf"/>
  <Override PartName="/ppt/media/image28.wmf" ContentType="image/x-wmf"/>
  <Override PartName="/ppt/media/image3.jpeg" ContentType="image/jpeg"/>
  <Override PartName="/ppt/media/image24.jpeg" ContentType="image/jpeg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BA5-D7A2-4A06-B191-62FE2BF7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CE7-7965-4CC0-AADA-CBFD922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C63-F68B-4E0C-88F2-AECB02D0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8DF-6DB7-4E4D-90EA-365469AD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8B2-9494-428B-897A-C6BF7063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C9DB-3412-43DE-B44F-C63B2C4E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239-5FCB-4D98-A799-826695D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5F8-37E1-4347-BD38-00E566B5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7D9-DFC4-46C1-B130-8C10FA3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D032-E0E2-43D2-AD36-237B9EE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265B-F9DC-44BA-BD75-A6D2E117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59E-81FC-4022-AF3A-8949465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F416-1586-403A-9A5D-BB1BB0A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1D2F-496C-4391-888C-CBA8DA1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C45E-C8C6-4391-BD0F-076B7E2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8BD-FB77-474C-9D23-45B22236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356-23D8-4D91-9C54-A4379425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46C0-7887-4653-844C-489217F1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DD83-AAC8-4322-BAE1-346FBF70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00AB-9E56-41D4-818A-171EA42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CBA4-2590-4D50-AF86-4DCDE29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1533-B236-4C82-9A18-58996B53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FC8-936A-4CE7-9A3B-D2E33F5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F6C6-81D1-48A8-9ED0-A2856DEC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7FAE-5CF5-4284-8EBB-0D40024C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81F0-5E15-43DE-A9A8-DFA777F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BEF0-178D-45BF-B0C2-63F768D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78EC-158A-41F2-B45F-F08065F5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8C80-28AC-4FB5-B872-5C0CCAF3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E7C7-5605-48BE-B3FB-C3F0D792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A888-632B-487E-9D39-2DE3FE20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9F33-0351-40A4-B12D-AFFC8F04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A249-CE25-48F8-B547-905C2870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1E9-9790-41A2-AF0D-5822A8A7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0DC0-3765-4E57-BB15-19887E0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23E7-7BA8-456A-913A-2A3958A0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44BC-616E-4C44-81DC-C6A7066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900F-9498-43C9-ABDD-121695F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9720-E6F0-473B-B8AA-74D5DA7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D9C4-1731-4967-A6E0-A169301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E5AD-20CF-4FA5-B6AC-978189CA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0729-7DE1-4B3D-9CB2-35186885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6FB8-97A2-4072-83EB-9CC1395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9508-E939-45AD-BC47-E762EFEB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93F-3567-4307-B000-427913B8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EED4-540F-49EA-9A56-4BDB570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2C30-F61F-4565-9D8E-66ACACF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2F3F-A436-4B89-969E-32825DC6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9FE8-5D4F-4C69-A0EA-11811462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99179-E69B-437C-8CE5-A50AD6B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BF1F9-7278-4C1A-887B-23B97A5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B196-9E29-4FE3-B8A8-428AE918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76E5-CE06-4366-A163-C303C70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A7901-F6C6-4614-A91B-37B1CE6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2686-FBC9-4FAC-A149-81336E41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9AF-7B96-43B4-B6CD-8897CFA7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4451-68B4-4239-BF7B-1AA736F5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F6E6-4F31-477E-8B52-C3A09C79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E13C7-5940-422F-957B-3358081C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A71B-6C98-4F98-BD9B-8CD9C92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88E3-2319-4B7F-AD18-C21B9033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2E676-F716-42EC-A9F0-E71DC6B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875C-B269-4275-ADBF-3666827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7CC9-BD9D-4C00-AEBE-E43666E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F5B1-F540-44C4-98F2-F7F04319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11A1-B229-4F66-8B22-43462BE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AEB-3B57-4A62-A4D6-9E44A72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3506-ABC9-4849-B8A2-9F45C856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07F8C-4A1A-4049-8228-627B8D33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3AD5-052E-424E-988B-9806DC42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C781-4307-4E25-A210-1FB5A125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06DD9-D76E-4460-8887-51CDDC52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95B9-7E82-4019-BB45-EEDA6CD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F3194-422A-48D1-A69F-D526DA8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9013-D95B-4517-AA22-6554DA8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6BFB-A799-44E0-ADCE-7C75A19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EBFE-92FC-4AB5-9AD2-FC5CD3E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1D5-F916-4367-9854-2D8987C8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B79F-3574-438B-AAAA-6D225B8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8E21-2A4B-4446-981E-90D22D8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C4E55-2FC8-42CF-A009-31CE0421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86F7-4F6E-408E-8DA1-7C5B5EDE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5621C-9404-4861-805F-DB59F2C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22F6-F357-47ED-882D-A28175F1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4A35A-A38D-4625-8839-B46594C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54EC-DC0F-4A1F-979E-E047BB05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5DB63-C71E-4BD1-B7C5-E8042D4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886ED-CDFA-4830-961A-D51891F5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6F8-2F7B-456A-ABF2-515F50F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D4419-A14F-4CA7-B69A-AAE37DB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0ABD-1EA1-4172-B2F1-13B623E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5749-7DE1-46E8-8538-CBD6F58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BADD-718E-40BE-8D28-BE32971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461E7-223A-480B-8896-1278575F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DDE4-4069-4884-9C62-587D7848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8058-57A6-4FC8-98E9-B48BAD5F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0BF-E29C-4B94-B2CB-6B32F476B1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DAE-E825-4973-977E-3B69056469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94B-100B-4F10-B557-9A1C88960D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4958-39DF-4A74-8BE6-9698DDD19A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2F40-CC34-4055-9D01-A87187D8D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F04-D858-4A6E-90EA-F64A134D6C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F05-0D97-40F7-A5B6-D841CEE2DEC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940F-3CF1-44B3-ADD0-7F9014E4DFC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8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8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640" y="765000"/>
            <a:ext cx="4248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547640" y="1268280"/>
            <a:ext cx="165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854360" y="3090960"/>
            <a:ext cx="57243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27.4</a:t>
            </a: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弧长和扇形面积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934320" y="2924280"/>
            <a:ext cx="792000" cy="720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032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正三角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边长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分别以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圆心，以      为半径的圆相切于点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求图中阴影部分的面积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7956720" y="11592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6141960" y="306864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80360" y="306864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6760" y="200196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62600" y="2608200"/>
            <a:ext cx="1224000" cy="1058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93080" y="22906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57960" y="3571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870680" y="35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1832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726320" y="306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294680" y="36432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1195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解：连接</a:t>
            </a:r>
            <a:r>
              <a:rPr b="1" i="1" lang="zh-CN" sz="2000" spc="-1" strike="noStrike">
                <a:solidFill>
                  <a:srgbClr val="0000ff"/>
                </a:solidFill>
                <a:latin typeface="Times New Roman"/>
              </a:rPr>
              <a:t>AD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476360" y="1700280"/>
          <a:ext cx="12952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1295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2771640" y="162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垂足为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2131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根据勾股定理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95280" y="2682720"/>
          <a:ext cx="185436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682720"/>
                    <a:ext cx="18543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340000" y="2492280"/>
          <a:ext cx="129528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2492280"/>
                    <a:ext cx="12952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602160" y="2492280"/>
          <a:ext cx="860400" cy="77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02160" y="2492280"/>
                    <a:ext cx="86040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51000" y="3355920"/>
          <a:ext cx="441144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000" y="3355920"/>
                    <a:ext cx="4411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407880" y="4148280"/>
          <a:ext cx="1771920" cy="72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7880" y="4148280"/>
                    <a:ext cx="17719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539640" y="5011560"/>
            <a:ext cx="439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又知，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000" spc="-1" strike="noStrike" baseline="-25000">
                <a:solidFill>
                  <a:srgbClr val="ff3300"/>
                </a:solidFill>
                <a:latin typeface="Arial"/>
              </a:rPr>
              <a:t>扇形</a:t>
            </a:r>
            <a:r>
              <a:rPr b="1" i="1" lang="zh-CN" sz="2000" spc="-1" strike="noStrike" baseline="-25000">
                <a:solidFill>
                  <a:srgbClr val="ff3300"/>
                </a:solidFill>
                <a:latin typeface="Times New Roman"/>
              </a:rPr>
              <a:t>BDF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000" spc="-1" strike="noStrike" baseline="-25000">
                <a:solidFill>
                  <a:srgbClr val="ff3300"/>
                </a:solidFill>
                <a:latin typeface="Arial"/>
              </a:rPr>
              <a:t>扇形</a:t>
            </a:r>
            <a:r>
              <a:rPr b="1" i="1" lang="zh-CN" sz="2000" spc="-1" strike="noStrike" baseline="-25000">
                <a:solidFill>
                  <a:srgbClr val="ff3300"/>
                </a:solidFill>
                <a:latin typeface="Times New Roman"/>
              </a:rPr>
              <a:t>CDE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2000" spc="-1" strike="noStrike" baseline="-25000">
                <a:solidFill>
                  <a:srgbClr val="ff3300"/>
                </a:solidFill>
                <a:latin typeface="Arial"/>
              </a:rPr>
              <a:t>扇形</a:t>
            </a:r>
            <a:r>
              <a:rPr b="1" i="1" lang="zh-CN" sz="2000" spc="-1" strike="noStrike" baseline="-25000">
                <a:solidFill>
                  <a:srgbClr val="ff3300"/>
                </a:solidFill>
                <a:latin typeface="Times New Roman"/>
              </a:rPr>
              <a:t>AEF</a:t>
            </a:r>
            <a:r>
              <a:rPr b="1" lang="zh-CN" sz="2000" spc="-1" strike="noStrike" baseline="-25000">
                <a:solidFill>
                  <a:srgbClr val="ff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915840" y="5516640"/>
          <a:ext cx="4645080" cy="639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5840" y="5516640"/>
                    <a:ext cx="4645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7372440" y="2629080"/>
            <a:ext cx="1440" cy="1046160"/>
          </a:xfrm>
          <a:custGeom>
            <a:avLst/>
            <a:gdLst/>
            <a:ahLst/>
            <a:rect l="l" t="t" r="r" b="b"/>
            <a:pathLst>
              <a:path w="1" h="659">
                <a:moveTo>
                  <a:pt x="1" y="0"/>
                </a:moveTo>
                <a:lnTo>
                  <a:pt x="0" y="65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634000" y="1365120"/>
            <a:ext cx="2376360" cy="23767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6080" y="1357200"/>
            <a:ext cx="2376360" cy="2376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13720" y="25462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31000" y="1861920"/>
            <a:ext cx="955800" cy="70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26320" y="2571840"/>
            <a:ext cx="9968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781760" y="1852560"/>
            <a:ext cx="231840" cy="1324080"/>
            <a:chOff x="7781760" y="1852560"/>
            <a:chExt cx="231840" cy="1324080"/>
          </a:xfrm>
        </p:grpSpPr>
        <p:sp>
          <p:nvSpPr>
            <p:cNvPr id="352" name=""/>
            <p:cNvSpPr/>
            <p:nvPr/>
          </p:nvSpPr>
          <p:spPr>
            <a:xfrm>
              <a:off x="7781760" y="1852560"/>
              <a:ext cx="231840" cy="1190520"/>
            </a:xfrm>
            <a:custGeom>
              <a:avLst/>
              <a:gdLst/>
              <a:ahLst/>
              <a:rect l="l" t="t" r="r" b="b"/>
              <a:pathLst>
                <a:path w="146" h="750">
                  <a:moveTo>
                    <a:pt x="0" y="0"/>
                  </a:moveTo>
                  <a:cubicBezTo>
                    <a:pt x="22" y="30"/>
                    <a:pt x="45" y="61"/>
                    <a:pt x="66" y="108"/>
                  </a:cubicBezTo>
                  <a:cubicBezTo>
                    <a:pt x="87" y="155"/>
                    <a:pt x="114" y="211"/>
                    <a:pt x="126" y="279"/>
                  </a:cubicBezTo>
                  <a:cubicBezTo>
                    <a:pt x="138" y="347"/>
                    <a:pt x="146" y="441"/>
                    <a:pt x="138" y="519"/>
                  </a:cubicBezTo>
                  <a:cubicBezTo>
                    <a:pt x="130" y="597"/>
                    <a:pt x="85" y="712"/>
                    <a:pt x="75" y="75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29640" y="3033720"/>
              <a:ext cx="71280" cy="142920"/>
            </a:xfrm>
            <a:custGeom>
              <a:avLst/>
              <a:gdLst/>
              <a:ahLst/>
              <a:rect l="l" t="t" r="r" b="b"/>
              <a:pathLst>
                <a:path w="45" h="90">
                  <a:moveTo>
                    <a:pt x="45" y="0"/>
                  </a:moveTo>
                  <a:cubicBezTo>
                    <a:pt x="26" y="38"/>
                    <a:pt x="7" y="76"/>
                    <a:pt x="0" y="9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603080" y="828720"/>
            <a:ext cx="30121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条弧和经过这条弧的端点的两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半径所组成的图形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扇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3320" y="1890720"/>
            <a:ext cx="1128600" cy="1271520"/>
          </a:xfrm>
          <a:custGeom>
            <a:avLst/>
            <a:gdLst/>
            <a:ahLst/>
            <a:rect l="l" t="t" r="r" b="b"/>
            <a:pathLst>
              <a:path w="711" h="801">
                <a:moveTo>
                  <a:pt x="585" y="0"/>
                </a:moveTo>
                <a:lnTo>
                  <a:pt x="657" y="132"/>
                </a:lnTo>
                <a:lnTo>
                  <a:pt x="693" y="237"/>
                </a:lnTo>
                <a:lnTo>
                  <a:pt x="711" y="378"/>
                </a:lnTo>
                <a:lnTo>
                  <a:pt x="705" y="522"/>
                </a:lnTo>
                <a:lnTo>
                  <a:pt x="666" y="669"/>
                </a:lnTo>
                <a:lnTo>
                  <a:pt x="603" y="801"/>
                </a:lnTo>
                <a:lnTo>
                  <a:pt x="0" y="426"/>
                </a:lnTo>
                <a:lnTo>
                  <a:pt x="585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0960" y="1555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13720" y="302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77480" y="227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42360" y="338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84440" y="2292480"/>
            <a:ext cx="4508640" cy="974160"/>
            <a:chOff x="784440" y="2292480"/>
            <a:chExt cx="4508640" cy="974160"/>
          </a:xfrm>
        </p:grpSpPr>
        <p:sp>
          <p:nvSpPr>
            <p:cNvPr id="361" name=""/>
            <p:cNvSpPr/>
            <p:nvPr/>
          </p:nvSpPr>
          <p:spPr>
            <a:xfrm>
              <a:off x="784440" y="2441160"/>
              <a:ext cx="444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，由半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      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构成的图形是扇形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2" name=""/>
            <p:cNvGraphicFramePr/>
            <p:nvPr/>
          </p:nvGraphicFramePr>
          <p:xfrm>
            <a:off x="4635720" y="2292480"/>
            <a:ext cx="657360" cy="55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35720" y="2292480"/>
                      <a:ext cx="657360" cy="55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4" name=""/>
          <p:cNvGrpSpPr/>
          <p:nvPr/>
        </p:nvGrpSpPr>
        <p:grpSpPr>
          <a:xfrm>
            <a:off x="791640" y="3686040"/>
            <a:ext cx="4747320" cy="990720"/>
            <a:chOff x="791640" y="3686040"/>
            <a:chExt cx="4747320" cy="990720"/>
          </a:xfrm>
        </p:grpSpPr>
        <p:sp>
          <p:nvSpPr>
            <p:cNvPr id="365" name=""/>
            <p:cNvSpPr/>
            <p:nvPr/>
          </p:nvSpPr>
          <p:spPr>
            <a:xfrm>
              <a:off x="791640" y="3851280"/>
              <a:ext cx="468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⊙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，由半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         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构成的图形是扇形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6" name=""/>
            <p:cNvGraphicFramePr/>
            <p:nvPr/>
          </p:nvGraphicFramePr>
          <p:xfrm>
            <a:off x="4618080" y="3686040"/>
            <a:ext cx="92088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18080" y="3686040"/>
                      <a:ext cx="92088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8" name=""/>
          <p:cNvSpPr/>
          <p:nvPr/>
        </p:nvSpPr>
        <p:spPr>
          <a:xfrm>
            <a:off x="1836360" y="4802040"/>
            <a:ext cx="49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在同圆或等圆中，由于相等的圆心角所对的弧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具有相等圆心角的扇形，其面积也相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2360" y="476280"/>
            <a:ext cx="5975280" cy="5473800"/>
          </a:xfrm>
          <a:prstGeom prst="verticalScroll">
            <a:avLst>
              <a:gd name="adj" fmla="val 12500"/>
            </a:avLst>
          </a:prstGeom>
          <a:solidFill>
            <a:srgbClr val="ffff00">
              <a:alpha val="75000"/>
            </a:srgbClr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16000" y="1359000"/>
            <a:ext cx="439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如图，由组成圆心角的两条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径和圆心角所对的弧所围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图形叫做扇形，可以发现，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形面积与组成扇形的圆心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大小有关，圆心角越大，扇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面积也就越大．</a:t>
            </a:r>
            <a:r>
              <a:rPr b="1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怎样计算圆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径为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R</a:t>
            </a:r>
            <a:r>
              <a:rPr b="1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，圆心角为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°</a:t>
            </a:r>
            <a:r>
              <a:rPr b="1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的扇形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幼圆"/>
                <a:ea typeface="幼圆"/>
              </a:rPr>
              <a:t>积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84720" y="2565360"/>
            <a:ext cx="2087640" cy="2158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6360" y="2205000"/>
            <a:ext cx="2376360" cy="2536560"/>
            <a:chOff x="6156360" y="2205000"/>
            <a:chExt cx="2376360" cy="2536560"/>
          </a:xfrm>
        </p:grpSpPr>
        <p:grpSp>
          <p:nvGrpSpPr>
            <p:cNvPr id="373" name=""/>
            <p:cNvGrpSpPr/>
            <p:nvPr/>
          </p:nvGrpSpPr>
          <p:grpSpPr>
            <a:xfrm>
              <a:off x="6156360" y="2205000"/>
              <a:ext cx="2376360" cy="2536560"/>
              <a:chOff x="6156360" y="2205000"/>
              <a:chExt cx="2376360" cy="253656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7135920" y="2708280"/>
                <a:ext cx="503280" cy="936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93080" y="3645000"/>
                <a:ext cx="863640" cy="647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3429000"/>
                <a:ext cx="14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48360" y="2205000"/>
                <a:ext cx="115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13800" y="4221000"/>
                <a:ext cx="71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7524720" y="2997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96360" y="2852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51640" y="3141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23120" y="32846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36000" y="342900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4360" y="3573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4360" y="3716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80360" y="3860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96360" y="40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40720" y="4149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351920" y="3432240"/>
            <a:ext cx="4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164720" y="3838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68360" y="836640"/>
            <a:ext cx="7777080" cy="237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73320" y="26510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4.   </a:t>
            </a:r>
            <a:r>
              <a:rPr b="1" i="1" lang="zh-CN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的圆心角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-36360" y="3573360"/>
            <a:ext cx="4968360" cy="459720"/>
            <a:chOff x="-36360" y="3573360"/>
            <a:chExt cx="4968360" cy="459720"/>
          </a:xfrm>
        </p:grpSpPr>
        <p:graphicFrame>
          <p:nvGraphicFramePr>
            <p:cNvPr id="394" name=""/>
            <p:cNvGraphicFramePr/>
            <p:nvPr/>
          </p:nvGraphicFramePr>
          <p:xfrm>
            <a:off x="3492360" y="3573360"/>
            <a:ext cx="14396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92360" y="3573360"/>
                      <a:ext cx="1439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-36360" y="3573360"/>
              <a:ext cx="41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半径为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圆的周长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395280" y="436572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看作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36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心角所对的弧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12720" y="4797360"/>
            <a:ext cx="5472000" cy="1077840"/>
            <a:chOff x="612720" y="4797360"/>
            <a:chExt cx="5472000" cy="1077840"/>
          </a:xfrm>
        </p:grpSpPr>
        <p:sp>
          <p:nvSpPr>
            <p:cNvPr id="399" name=""/>
            <p:cNvSpPr/>
            <p:nvPr/>
          </p:nvSpPr>
          <p:spPr>
            <a:xfrm>
              <a:off x="612720" y="5157720"/>
              <a:ext cx="54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圆心角所对弧长是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4189320" y="4797360"/>
            <a:ext cx="1843200" cy="10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89320" y="4797360"/>
                      <a:ext cx="1843200" cy="107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2" name=""/>
          <p:cNvGrpSpPr/>
          <p:nvPr/>
        </p:nvGrpSpPr>
        <p:grpSpPr>
          <a:xfrm>
            <a:off x="611280" y="5810400"/>
            <a:ext cx="7037280" cy="1226880"/>
            <a:chOff x="611280" y="5810400"/>
            <a:chExt cx="7037280" cy="1226880"/>
          </a:xfrm>
        </p:grpSpPr>
        <p:sp>
          <p:nvSpPr>
            <p:cNvPr id="403" name=""/>
            <p:cNvSpPr/>
            <p:nvPr/>
          </p:nvSpPr>
          <p:spPr>
            <a:xfrm>
              <a:off x="611280" y="6021360"/>
              <a:ext cx="6697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圆心角所对的弧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4373640" y="5810400"/>
            <a:ext cx="3274920" cy="86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73640" y="5810400"/>
                      <a:ext cx="3274920" cy="86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6" name=""/>
          <p:cNvSpPr/>
          <p:nvPr/>
        </p:nvSpPr>
        <p:spPr>
          <a:xfrm>
            <a:off x="1042920" y="10526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.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你还记得圆周长的计算公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89160" y="1557360"/>
            <a:ext cx="65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2.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圆的周长可以看作是多少度的圆 心角所对的弧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21985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3.  1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的圆心角所对弧长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300720" y="3502080"/>
            <a:ext cx="2016360" cy="1871640"/>
            <a:chOff x="6300720" y="3502080"/>
            <a:chExt cx="2016360" cy="1871640"/>
          </a:xfrm>
        </p:grpSpPr>
        <p:sp>
          <p:nvSpPr>
            <p:cNvPr id="410" name=""/>
            <p:cNvSpPr/>
            <p:nvPr/>
          </p:nvSpPr>
          <p:spPr>
            <a:xfrm>
              <a:off x="6804000" y="4797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300720" y="3502080"/>
              <a:ext cx="2016360" cy="1871640"/>
              <a:chOff x="6300720" y="3502080"/>
              <a:chExt cx="2016360" cy="1871640"/>
            </a:xfrm>
          </p:grpSpPr>
          <p:sp>
            <p:nvSpPr>
              <p:cNvPr id="412" name=""/>
              <p:cNvSpPr/>
              <p:nvPr/>
            </p:nvSpPr>
            <p:spPr>
              <a:xfrm>
                <a:off x="7589880" y="4341960"/>
                <a:ext cx="52560" cy="9180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9" y="58"/>
                    </a:moveTo>
                    <a:cubicBezTo>
                      <a:pt x="14" y="43"/>
                      <a:pt x="33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6300720" y="3502080"/>
                <a:ext cx="2016360" cy="1871640"/>
                <a:chOff x="6300720" y="3502080"/>
                <a:chExt cx="2016360" cy="18716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236000" y="4453200"/>
                  <a:ext cx="93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6300720" y="3502080"/>
                  <a:ext cx="2016360" cy="1871640"/>
                  <a:chOff x="6300720" y="3502080"/>
                  <a:chExt cx="2016360" cy="1871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7310520" y="4438440"/>
                    <a:ext cx="16992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18">
                        <a:moveTo>
                          <a:pt x="0" y="102"/>
                        </a:moveTo>
                        <a:cubicBezTo>
                          <a:pt x="49" y="118"/>
                          <a:pt x="64" y="117"/>
                          <a:pt x="93" y="74"/>
                        </a:cubicBezTo>
                        <a:cubicBezTo>
                          <a:pt x="107" y="31"/>
                          <a:pt x="102" y="56"/>
                          <a:pt x="10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6300720" y="3502080"/>
                    <a:ext cx="2016360" cy="1871640"/>
                    <a:chOff x="6300720" y="3502080"/>
                    <a:chExt cx="2016360" cy="187164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V="1">
                      <a:off x="7236000" y="4149720"/>
                      <a:ext cx="865080" cy="28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6300720" y="3502080"/>
                      <a:ext cx="2016360" cy="1871640"/>
                      <a:chOff x="6300720" y="3502080"/>
                      <a:chExt cx="2016360" cy="187164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6300720" y="3502080"/>
                        <a:ext cx="1872000" cy="187164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·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7236000" y="4438440"/>
                        <a:ext cx="431640" cy="86364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7309080" y="4503600"/>
                        <a:ext cx="7920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n</a:t>
                        </a: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°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7667640" y="4173480"/>
                        <a:ext cx="6494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1°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6877080" y="4124160"/>
                        <a:ext cx="4320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2000" spc="-1" strike="noStrike">
                            <a:solidFill>
                              <a:srgbClr val="ff3300"/>
                            </a:solidFill>
                            <a:latin typeface="Times New Roman"/>
                          </a:rPr>
                          <a:t>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425" name=""/>
          <p:cNvGrpSpPr/>
          <p:nvPr/>
        </p:nvGrpSpPr>
        <p:grpSpPr>
          <a:xfrm>
            <a:off x="378000" y="181080"/>
            <a:ext cx="2930400" cy="861480"/>
            <a:chOff x="378000" y="181080"/>
            <a:chExt cx="2930400" cy="861480"/>
          </a:xfrm>
        </p:grpSpPr>
        <p:pic>
          <p:nvPicPr>
            <p:cNvPr id="426" name="" descr=""/>
            <p:cNvPicPr/>
            <p:nvPr/>
          </p:nvPicPr>
          <p:blipFill>
            <a:blip r:embed="rId7"/>
            <a:stretch/>
          </p:blipFill>
          <p:spPr>
            <a:xfrm>
              <a:off x="378000" y="252360"/>
              <a:ext cx="792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219320" y="181080"/>
              <a:ext cx="2089080" cy="684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1327320" y="28872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做一做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84360" y="1143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制造弯形管道时，经常要先按中心线计算“展直长度”（图中虚线成的长度），再下料，这就涉及到计算弧长的问题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60280"/>
            <a:ext cx="180000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隶书"/>
              </a:rPr>
              <a:t>一 问题情境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68360" y="5157720"/>
            <a:ext cx="5256000" cy="792000"/>
            <a:chOff x="468360" y="5157720"/>
            <a:chExt cx="5256000" cy="792000"/>
          </a:xfrm>
        </p:grpSpPr>
        <p:sp>
          <p:nvSpPr>
            <p:cNvPr id="432" name=""/>
            <p:cNvSpPr/>
            <p:nvPr/>
          </p:nvSpPr>
          <p:spPr>
            <a:xfrm>
              <a:off x="468360" y="528156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如 何 求          长 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"/>
            <p:cNvGraphicFramePr/>
            <p:nvPr/>
          </p:nvGraphicFramePr>
          <p:xfrm>
            <a:off x="2970000" y="5157720"/>
            <a:ext cx="790920" cy="79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0000" y="5157720"/>
                      <a:ext cx="79092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5" name=""/>
          <p:cNvGrpSpPr/>
          <p:nvPr/>
        </p:nvGrpSpPr>
        <p:grpSpPr>
          <a:xfrm>
            <a:off x="1328760" y="2349360"/>
            <a:ext cx="6191280" cy="3240360"/>
            <a:chOff x="1328760" y="2349360"/>
            <a:chExt cx="6191280" cy="3240360"/>
          </a:xfrm>
        </p:grpSpPr>
        <p:sp>
          <p:nvSpPr>
            <p:cNvPr id="436" name=""/>
            <p:cNvSpPr/>
            <p:nvPr/>
          </p:nvSpPr>
          <p:spPr>
            <a:xfrm rot="20100000">
              <a:off x="6091200" y="3212640"/>
              <a:ext cx="468360" cy="1584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6488280" y="3127320"/>
              <a:ext cx="20160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6720" y="3645000"/>
              <a:ext cx="10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11640" y="306216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9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2760" y="2349360"/>
              <a:ext cx="3887640" cy="3240360"/>
            </a:xfrm>
            <a:prstGeom prst="blockArc">
              <a:avLst>
                <a:gd name="adj1" fmla="val 12481427"/>
                <a:gd name="adj2" fmla="val 19918573"/>
                <a:gd name="adj3" fmla="val 12509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500000">
              <a:off x="2425680" y="3227040"/>
              <a:ext cx="468360" cy="1584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82960" y="2541600"/>
              <a:ext cx="2990880" cy="754200"/>
            </a:xfrm>
            <a:custGeom>
              <a:avLst/>
              <a:gdLst/>
              <a:ahLst/>
              <a:rect l="l" t="t" r="r" b="b"/>
              <a:pathLst>
                <a:path w="1884" h="475">
                  <a:moveTo>
                    <a:pt x="0" y="475"/>
                  </a:moveTo>
                  <a:cubicBezTo>
                    <a:pt x="62" y="419"/>
                    <a:pt x="227" y="215"/>
                    <a:pt x="375" y="137"/>
                  </a:cubicBezTo>
                  <a:cubicBezTo>
                    <a:pt x="523" y="59"/>
                    <a:pt x="718" y="18"/>
                    <a:pt x="887" y="9"/>
                  </a:cubicBezTo>
                  <a:cubicBezTo>
                    <a:pt x="1056" y="0"/>
                    <a:pt x="1248" y="33"/>
                    <a:pt x="1390" y="82"/>
                  </a:cubicBezTo>
                  <a:cubicBezTo>
                    <a:pt x="1532" y="131"/>
                    <a:pt x="1656" y="236"/>
                    <a:pt x="1738" y="301"/>
                  </a:cubicBezTo>
                  <a:cubicBezTo>
                    <a:pt x="1820" y="366"/>
                    <a:pt x="1854" y="439"/>
                    <a:pt x="1884" y="4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30280" y="3324240"/>
              <a:ext cx="652680" cy="1422360"/>
            </a:xfrm>
            <a:custGeom>
              <a:avLst/>
              <a:gdLst/>
              <a:ahLst/>
              <a:rect l="l" t="t" r="r" b="b"/>
              <a:pathLst>
                <a:path w="411" h="896">
                  <a:moveTo>
                    <a:pt x="411" y="0"/>
                  </a:moveTo>
                  <a:lnTo>
                    <a:pt x="0" y="8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7880" y="3324240"/>
              <a:ext cx="682920" cy="1422360"/>
            </a:xfrm>
            <a:custGeom>
              <a:avLst/>
              <a:gdLst/>
              <a:ahLst/>
              <a:rect l="l" t="t" r="r" b="b"/>
              <a:pathLst>
                <a:path w="430" h="896">
                  <a:moveTo>
                    <a:pt x="0" y="0"/>
                  </a:moveTo>
                  <a:lnTo>
                    <a:pt x="430" y="8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89120" y="44244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889680" y="4428360"/>
              <a:ext cx="44388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336760" y="314136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904760" y="407844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73840" y="400536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8760" y="357336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06720" y="2867040"/>
              <a:ext cx="23763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468680" y="2867040"/>
              <a:ext cx="2448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40240" y="3976560"/>
              <a:ext cx="71280" cy="71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95880" y="3817800"/>
              <a:ext cx="360360" cy="73080"/>
            </a:xfrm>
            <a:custGeom>
              <a:avLst/>
              <a:gdLst/>
              <a:ahLst/>
              <a:rect l="l" t="t" r="r" b="b"/>
              <a:pathLst>
                <a:path w="409" h="45">
                  <a:moveTo>
                    <a:pt x="0" y="45"/>
                  </a:moveTo>
                  <a:cubicBezTo>
                    <a:pt x="57" y="22"/>
                    <a:pt x="114" y="0"/>
                    <a:pt x="182" y="0"/>
                  </a:cubicBezTo>
                  <a:cubicBezTo>
                    <a:pt x="250" y="0"/>
                    <a:pt x="329" y="22"/>
                    <a:pt x="409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21120" y="3429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13120" y="292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49840" y="2997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0760" y="4726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86560" y="47260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2963880" y="4532400"/>
          <a:ext cx="545004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4532400"/>
                    <a:ext cx="54500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257640" y="6027840"/>
          <a:ext cx="49338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6027840"/>
                    <a:ext cx="49338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324000" y="5516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 此 所 要 求 的 展 直 长 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79280" y="3933720"/>
            <a:ext cx="5867280" cy="502560"/>
            <a:chOff x="179280" y="3933720"/>
            <a:chExt cx="5867280" cy="502560"/>
          </a:xfrm>
        </p:grpSpPr>
        <p:sp>
          <p:nvSpPr>
            <p:cNvPr id="466" name=""/>
            <p:cNvSpPr/>
            <p:nvPr/>
          </p:nvSpPr>
          <p:spPr>
            <a:xfrm>
              <a:off x="179280" y="397656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由上面的弧长公式，可得        的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3720960" y="3933720"/>
            <a:ext cx="576000" cy="492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20960" y="3933720"/>
                      <a:ext cx="57600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9" name=""/>
          <p:cNvGrpSpPr/>
          <p:nvPr/>
        </p:nvGrpSpPr>
        <p:grpSpPr>
          <a:xfrm>
            <a:off x="971640" y="1197000"/>
            <a:ext cx="6334200" cy="3240000"/>
            <a:chOff x="971640" y="1197000"/>
            <a:chExt cx="6334200" cy="3240000"/>
          </a:xfrm>
        </p:grpSpPr>
        <p:grpSp>
          <p:nvGrpSpPr>
            <p:cNvPr id="470" name=""/>
            <p:cNvGrpSpPr/>
            <p:nvPr/>
          </p:nvGrpSpPr>
          <p:grpSpPr>
            <a:xfrm>
              <a:off x="971640" y="1590840"/>
              <a:ext cx="6334200" cy="2447640"/>
              <a:chOff x="971640" y="1590840"/>
              <a:chExt cx="6334200" cy="2447640"/>
            </a:xfrm>
          </p:grpSpPr>
          <p:sp>
            <p:nvSpPr>
              <p:cNvPr id="471" name=""/>
              <p:cNvSpPr/>
              <p:nvPr/>
            </p:nvSpPr>
            <p:spPr>
              <a:xfrm rot="20100000">
                <a:off x="5879880" y="2074320"/>
                <a:ext cx="468360" cy="1584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226200" y="1988640"/>
                <a:ext cx="216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9784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65840" y="2133720"/>
                <a:ext cx="158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=9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75" name=""/>
              <p:cNvGraphicFramePr/>
              <p:nvPr/>
            </p:nvGraphicFramePr>
            <p:xfrm>
              <a:off x="971640" y="1590840"/>
              <a:ext cx="3814920" cy="2447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971640" y="1590840"/>
                        <a:ext cx="3814920" cy="244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77" name=""/>
            <p:cNvSpPr/>
            <p:nvPr/>
          </p:nvSpPr>
          <p:spPr>
            <a:xfrm>
              <a:off x="2336760" y="1197000"/>
              <a:ext cx="3888000" cy="3240000"/>
            </a:xfrm>
            <a:prstGeom prst="blockArc">
              <a:avLst>
                <a:gd name="adj1" fmla="val 12481427"/>
                <a:gd name="adj2" fmla="val 19918573"/>
                <a:gd name="adj3" fmla="val 12509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500000">
              <a:off x="2209680" y="2074680"/>
              <a:ext cx="468360" cy="1584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66960" y="1389240"/>
              <a:ext cx="2990880" cy="753840"/>
            </a:xfrm>
            <a:custGeom>
              <a:avLst/>
              <a:gdLst/>
              <a:ahLst/>
              <a:rect l="l" t="t" r="r" b="b"/>
              <a:pathLst>
                <a:path w="1884" h="475">
                  <a:moveTo>
                    <a:pt x="0" y="475"/>
                  </a:moveTo>
                  <a:cubicBezTo>
                    <a:pt x="62" y="419"/>
                    <a:pt x="227" y="215"/>
                    <a:pt x="375" y="137"/>
                  </a:cubicBezTo>
                  <a:cubicBezTo>
                    <a:pt x="523" y="59"/>
                    <a:pt x="718" y="18"/>
                    <a:pt x="887" y="9"/>
                  </a:cubicBezTo>
                  <a:cubicBezTo>
                    <a:pt x="1056" y="0"/>
                    <a:pt x="1248" y="33"/>
                    <a:pt x="1390" y="82"/>
                  </a:cubicBezTo>
                  <a:cubicBezTo>
                    <a:pt x="1532" y="131"/>
                    <a:pt x="1656" y="236"/>
                    <a:pt x="1738" y="301"/>
                  </a:cubicBezTo>
                  <a:cubicBezTo>
                    <a:pt x="1820" y="366"/>
                    <a:pt x="1854" y="439"/>
                    <a:pt x="1884" y="4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14640" y="2171880"/>
              <a:ext cx="652320" cy="1422360"/>
            </a:xfrm>
            <a:custGeom>
              <a:avLst/>
              <a:gdLst/>
              <a:ahLst/>
              <a:rect l="l" t="t" r="r" b="b"/>
              <a:pathLst>
                <a:path w="411" h="896">
                  <a:moveTo>
                    <a:pt x="411" y="0"/>
                  </a:moveTo>
                  <a:lnTo>
                    <a:pt x="0" y="8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72240" y="2171880"/>
              <a:ext cx="682560" cy="1422360"/>
            </a:xfrm>
            <a:custGeom>
              <a:avLst/>
              <a:gdLst/>
              <a:ahLst/>
              <a:rect l="l" t="t" r="r" b="b"/>
              <a:pathLst>
                <a:path w="430" h="896">
                  <a:moveTo>
                    <a:pt x="0" y="0"/>
                  </a:moveTo>
                  <a:lnTo>
                    <a:pt x="430" y="8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73120" y="327168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674040" y="3276000"/>
              <a:ext cx="44388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120760" y="1989000"/>
              <a:ext cx="216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689120" y="2925720"/>
              <a:ext cx="216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57840" y="2852640"/>
              <a:ext cx="216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12760" y="242100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90720" y="1714680"/>
              <a:ext cx="23763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252680" y="1714680"/>
              <a:ext cx="24476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24240" y="2824200"/>
              <a:ext cx="71640" cy="71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79880" y="2665440"/>
              <a:ext cx="360360" cy="73080"/>
            </a:xfrm>
            <a:custGeom>
              <a:avLst/>
              <a:gdLst/>
              <a:ahLst/>
              <a:rect l="l" t="t" r="r" b="b"/>
              <a:pathLst>
                <a:path w="409" h="45">
                  <a:moveTo>
                    <a:pt x="0" y="45"/>
                  </a:moveTo>
                  <a:cubicBezTo>
                    <a:pt x="57" y="22"/>
                    <a:pt x="114" y="0"/>
                    <a:pt x="182" y="0"/>
                  </a:cubicBezTo>
                  <a:cubicBezTo>
                    <a:pt x="250" y="0"/>
                    <a:pt x="329" y="22"/>
                    <a:pt x="409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05120" y="2276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97120" y="1773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3840" y="1844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5120" y="3573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70560" y="3573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539640" y="47628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段弯道是圆弧形的，道长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弧所对的圆心角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求这段圆弧的半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精确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.1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04440" y="319680"/>
            <a:ext cx="5926320" cy="5933160"/>
            <a:chOff x="2404440" y="319680"/>
            <a:chExt cx="5926320" cy="5933160"/>
          </a:xfrm>
        </p:grpSpPr>
        <p:sp>
          <p:nvSpPr>
            <p:cNvPr id="499" name="m17Line 157"/>
            <p:cNvSpPr/>
            <p:nvPr/>
          </p:nvSpPr>
          <p:spPr>
            <a:xfrm flipH="1">
              <a:off x="5342400" y="1709640"/>
              <a:ext cx="1446480" cy="160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m17Line 158"/>
            <p:cNvSpPr/>
            <p:nvPr/>
          </p:nvSpPr>
          <p:spPr>
            <a:xfrm>
              <a:off x="5367240" y="3286440"/>
              <a:ext cx="1557360" cy="14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m17Arc 159"/>
            <p:cNvSpPr/>
            <p:nvPr/>
          </p:nvSpPr>
          <p:spPr>
            <a:xfrm rot="2523000">
              <a:off x="3291480" y="1163160"/>
              <a:ext cx="4151520" cy="424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5326200" y="3251160"/>
            <a:ext cx="71280" cy="7164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916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解：由弧长公式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509920" y="1700280"/>
          <a:ext cx="110016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1700280"/>
                    <a:ext cx="11001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258920" y="2782800"/>
          <a:ext cx="13669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782800"/>
                    <a:ext cx="13669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324000" y="2492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得：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971640" y="4111560"/>
          <a:ext cx="328140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111560"/>
                    <a:ext cx="3281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396720" y="558972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答：这段圆弧的半径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8.5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84360" y="907920"/>
            <a:ext cx="7704000" cy="2233800"/>
          </a:xfrm>
          <a:prstGeom prst="flowChartAlternateProcess">
            <a:avLst/>
          </a:prstGeom>
          <a:solidFill>
            <a:srgbClr val="00ffff"/>
          </a:solidFill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44440" y="213372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 1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圆心角所对的扇形面积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-36360" y="62164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圆心角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扇形面积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100400" y="5810400"/>
          <a:ext cx="20941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0400" y="5810400"/>
                    <a:ext cx="20941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"/>
          <p:cNvGrpSpPr/>
          <p:nvPr/>
        </p:nvGrpSpPr>
        <p:grpSpPr>
          <a:xfrm>
            <a:off x="611280" y="333360"/>
            <a:ext cx="2305080" cy="888840"/>
            <a:chOff x="611280" y="333360"/>
            <a:chExt cx="2305080" cy="888840"/>
          </a:xfrm>
        </p:grpSpPr>
        <p:sp>
          <p:nvSpPr>
            <p:cNvPr id="518" name=""/>
            <p:cNvSpPr/>
            <p:nvPr/>
          </p:nvSpPr>
          <p:spPr>
            <a:xfrm>
              <a:off x="1619280" y="71892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71640" y="358560"/>
              <a:ext cx="647640" cy="64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1280" y="718920"/>
              <a:ext cx="1319400" cy="49068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1280" y="731880"/>
              <a:ext cx="1319400" cy="49032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1163880" y="44604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1764000" y="33336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2324160" y="558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76360" y="1197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还记得圆面积公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04800" y="1700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圆面积可以看作是多少度的圆心角所对的扇形的面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90760" y="256536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圆心角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271680" y="3429000"/>
          <a:ext cx="1563840" cy="56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1680" y="3429000"/>
                    <a:ext cx="15638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-108000" y="350028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的面积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43401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36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心角所对的扇形的面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79280" y="4981680"/>
            <a:ext cx="6255000" cy="733320"/>
            <a:chOff x="179280" y="4981680"/>
            <a:chExt cx="6255000" cy="733320"/>
          </a:xfrm>
        </p:grpSpPr>
        <p:sp>
          <p:nvSpPr>
            <p:cNvPr id="533" name=""/>
            <p:cNvSpPr/>
            <p:nvPr/>
          </p:nvSpPr>
          <p:spPr>
            <a:xfrm>
              <a:off x="179280" y="515772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圆心角所对的扇形面积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4" name=""/>
            <p:cNvGraphicFramePr/>
            <p:nvPr/>
          </p:nvGraphicFramePr>
          <p:xfrm>
            <a:off x="5014800" y="4981680"/>
            <a:ext cx="1419480" cy="733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14800" y="4981680"/>
                      <a:ext cx="1419480" cy="73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6" name=""/>
          <p:cNvGrpSpPr/>
          <p:nvPr/>
        </p:nvGrpSpPr>
        <p:grpSpPr>
          <a:xfrm>
            <a:off x="6804000" y="3502080"/>
            <a:ext cx="2015640" cy="1871640"/>
            <a:chOff x="6804000" y="3502080"/>
            <a:chExt cx="2015640" cy="1871640"/>
          </a:xfrm>
        </p:grpSpPr>
        <p:sp>
          <p:nvSpPr>
            <p:cNvPr id="537" name=""/>
            <p:cNvSpPr/>
            <p:nvPr/>
          </p:nvSpPr>
          <p:spPr>
            <a:xfrm>
              <a:off x="7306920" y="4797360"/>
              <a:ext cx="86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804000" y="3502080"/>
              <a:ext cx="2015640" cy="1871640"/>
              <a:chOff x="6804000" y="3502080"/>
              <a:chExt cx="2015640" cy="1871640"/>
            </a:xfrm>
          </p:grpSpPr>
          <p:sp>
            <p:nvSpPr>
              <p:cNvPr id="539" name=""/>
              <p:cNvSpPr/>
              <p:nvPr/>
            </p:nvSpPr>
            <p:spPr>
              <a:xfrm>
                <a:off x="8092800" y="4341960"/>
                <a:ext cx="52200" cy="9180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9" y="58"/>
                    </a:moveTo>
                    <a:cubicBezTo>
                      <a:pt x="14" y="43"/>
                      <a:pt x="33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6804000" y="3502080"/>
                <a:ext cx="2015640" cy="1871640"/>
                <a:chOff x="6804000" y="3502080"/>
                <a:chExt cx="2015640" cy="18716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738920" y="4453200"/>
                  <a:ext cx="936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804000" y="3502080"/>
                  <a:ext cx="2015640" cy="1871640"/>
                  <a:chOff x="6804000" y="3502080"/>
                  <a:chExt cx="2015640" cy="18716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7813440" y="4438440"/>
                    <a:ext cx="16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18">
                        <a:moveTo>
                          <a:pt x="0" y="102"/>
                        </a:moveTo>
                        <a:cubicBezTo>
                          <a:pt x="49" y="118"/>
                          <a:pt x="64" y="117"/>
                          <a:pt x="93" y="74"/>
                        </a:cubicBezTo>
                        <a:cubicBezTo>
                          <a:pt x="107" y="31"/>
                          <a:pt x="102" y="56"/>
                          <a:pt x="10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6804000" y="3502080"/>
                    <a:ext cx="2015640" cy="1871640"/>
                    <a:chOff x="6804000" y="3502080"/>
                    <a:chExt cx="2015640" cy="187164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7738920" y="4149720"/>
                      <a:ext cx="864720" cy="288720"/>
                    </a:xfrm>
                    <a:prstGeom prst="line">
                      <a:avLst/>
                    </a:prstGeom>
                    <a:ln w="284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6804000" y="3502080"/>
                      <a:ext cx="2015640" cy="1871640"/>
                      <a:chOff x="6804000" y="3502080"/>
                      <a:chExt cx="2015640" cy="187164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6804000" y="3502080"/>
                        <a:ext cx="1871640" cy="187164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·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7738920" y="4438440"/>
                        <a:ext cx="431280" cy="863640"/>
                      </a:xfrm>
                      <a:prstGeom prst="line">
                        <a:avLst/>
                      </a:prstGeom>
                      <a:ln w="2844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7812000" y="4503600"/>
                        <a:ext cx="79164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n</a:t>
                        </a: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°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8170560" y="4173480"/>
                        <a:ext cx="64908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rial"/>
                          </a:rPr>
                          <a:t>1°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7380000" y="4124160"/>
                        <a:ext cx="43164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455760" y="1197000"/>
            <a:ext cx="2163600" cy="2163600"/>
            <a:chOff x="455760" y="1197000"/>
            <a:chExt cx="2163600" cy="2163600"/>
          </a:xfrm>
        </p:grpSpPr>
        <p:sp>
          <p:nvSpPr>
            <p:cNvPr id="553" name="shp1"/>
            <p:cNvSpPr/>
            <p:nvPr/>
          </p:nvSpPr>
          <p:spPr>
            <a:xfrm>
              <a:off x="455760" y="1197000"/>
              <a:ext cx="2163600" cy="216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shp2"/>
            <p:cNvSpPr/>
            <p:nvPr/>
          </p:nvSpPr>
          <p:spPr>
            <a:xfrm>
              <a:off x="671400" y="2927520"/>
              <a:ext cx="1730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6280" y="2975040"/>
              <a:ext cx="1593720" cy="0"/>
            </a:xfrm>
            <a:prstGeom prst="line">
              <a:avLst/>
            </a:prstGeom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080" y="3036960"/>
              <a:ext cx="1516320" cy="0"/>
            </a:xfrm>
            <a:prstGeom prst="line">
              <a:avLst/>
            </a:prstGeom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66880" y="3097080"/>
              <a:ext cx="1350720" cy="0"/>
            </a:xfrm>
            <a:prstGeom prst="line">
              <a:avLst/>
            </a:prstGeom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8800" y="3159000"/>
              <a:ext cx="1217520" cy="0"/>
            </a:xfrm>
            <a:prstGeom prst="line">
              <a:avLst/>
            </a:prstGeom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42920" y="3222720"/>
              <a:ext cx="984240" cy="0"/>
            </a:xfrm>
            <a:prstGeom prst="line">
              <a:avLst/>
            </a:prstGeom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90520" y="3286080"/>
              <a:ext cx="735120" cy="0"/>
            </a:xfrm>
            <a:prstGeom prst="line">
              <a:avLst/>
            </a:prstGeom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68360" y="476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水平放置的圆柱形排水管道的截面半径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其中水面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3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求截面上有水部分的面积（精确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24360" y="22701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0.6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D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0.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97440" y="28465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D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0.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59280" y="3427560"/>
            <a:ext cx="7775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Rt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A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中，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0.6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，利用勾股定理可得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Rt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∴∠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OA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∴ ∠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60 °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，∠</a:t>
            </a:r>
            <a:r>
              <a:rPr b="1" i="1" lang="zh-CN" sz="2000" spc="-1" strike="noStrike">
                <a:solidFill>
                  <a:srgbClr val="ff3300"/>
                </a:solidFill>
                <a:latin typeface="Times New Roman"/>
              </a:rPr>
              <a:t>AO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033800" y="3789360"/>
                <a:ext cx="1762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5651640" y="4292640"/>
                <a:ext cx="1368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231840" y="371016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水部分的面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95280" y="4365720"/>
                <a:ext cx="2376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扇形</m:t>
                        </m:r>
                        <m:r>
                          <m:rPr>
                            <m:lit/>
                            <m:nor/>
                          </m:rPr>
                          <m:t xml:space="preserve">OA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84360" y="4941720"/>
                <a:ext cx="201600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755640" y="5516640"/>
                <a:ext cx="18716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649440" y="6113520"/>
          <a:ext cx="16524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13520"/>
                    <a:ext cx="1652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3059280" y="3284640"/>
            <a:ext cx="0" cy="3573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916360" y="3141720"/>
            <a:ext cx="0" cy="3716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hp3"/>
          <p:cNvSpPr/>
          <p:nvPr/>
        </p:nvSpPr>
        <p:spPr>
          <a:xfrm>
            <a:off x="1533600" y="2284560"/>
            <a:ext cx="4680" cy="1076040"/>
          </a:xfrm>
          <a:custGeom>
            <a:avLst/>
            <a:gdLst/>
            <a:ahLst/>
            <a:rect l="l" t="t" r="r" b="b"/>
            <a:pathLst>
              <a:path w="3" h="796">
                <a:moveTo>
                  <a:pt x="0" y="0"/>
                </a:moveTo>
                <a:lnTo>
                  <a:pt x="3" y="79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hp4"/>
          <p:cNvSpPr/>
          <p:nvPr/>
        </p:nvSpPr>
        <p:spPr>
          <a:xfrm flipV="1">
            <a:off x="671400" y="2324160"/>
            <a:ext cx="804960" cy="60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hp5"/>
          <p:cNvSpPr/>
          <p:nvPr/>
        </p:nvSpPr>
        <p:spPr>
          <a:xfrm>
            <a:off x="1536840" y="2279520"/>
            <a:ext cx="86508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hp6"/>
          <p:cNvSpPr/>
          <p:nvPr/>
        </p:nvSpPr>
        <p:spPr>
          <a:xfrm>
            <a:off x="1547640" y="285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hp7"/>
          <p:cNvSpPr/>
          <p:nvPr/>
        </p:nvSpPr>
        <p:spPr>
          <a:xfrm>
            <a:off x="1619280" y="2852640"/>
            <a:ext cx="0" cy="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4000" y="291312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409840" y="285264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27040" y="340344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43080" y="260676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05000" y="199404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276720" y="1281240"/>
            <a:ext cx="7991280" cy="862560"/>
            <a:chOff x="3276720" y="1281240"/>
            <a:chExt cx="7991280" cy="862560"/>
          </a:xfrm>
        </p:grpSpPr>
        <p:sp>
          <p:nvSpPr>
            <p:cNvPr id="586" name=""/>
            <p:cNvSpPr/>
            <p:nvPr/>
          </p:nvSpPr>
          <p:spPr>
            <a:xfrm>
              <a:off x="3276720" y="1281240"/>
              <a:ext cx="799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解：如图，连接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作弦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垂直平分线，垂足为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交     于点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7" name=""/>
            <p:cNvGraphicFramePr/>
            <p:nvPr/>
          </p:nvGraphicFramePr>
          <p:xfrm>
            <a:off x="6372360" y="1773360"/>
            <a:ext cx="35856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72360" y="1773360"/>
                      <a:ext cx="3585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1:19:47Z</dcterms:created>
  <dc:creator/>
  <dc:description> </dc:description>
  <cp:keywords/>
  <dc:language>en-US</dc:language>
  <cp:lastModifiedBy>雨林木风</cp:lastModifiedBy>
  <dcterms:modified xsi:type="dcterms:W3CDTF">2009-08-11T07:12:26Z</dcterms:modified>
  <cp:revision>1</cp:revision>
  <dc:subject> </dc:subject>
  <dc:title> </dc:title>
</cp:coreProperties>
</file>